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033720" y="8780400"/>
            <a:ext cx="8719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A8AE311D-2923-4078-87B6-B9EC35D4552B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74680" y="700200"/>
            <a:ext cx="4587840" cy="344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92240" y="4433400"/>
            <a:ext cx="4664160" cy="4148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108080" y="4552920"/>
            <a:ext cx="4595760" cy="3589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 aware of risks and the investment that you are mak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592880" cy="3444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108080" y="4552920"/>
            <a:ext cx="4595760" cy="35892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 aware of risks and the investment that you are mak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1984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31230C80-8F1B-4BB9-94FD-7112796926E7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11840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24B84F40-EA4E-47F7-BC07-467C5209ECAB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028880" y="2050920"/>
            <a:ext cx="2914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966960" y="1893960"/>
            <a:ext cx="775152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200" spc="-1" strike="noStrike">
                <a:solidFill>
                  <a:srgbClr val="39536b"/>
                </a:solidFill>
                <a:latin typeface="Arial Narrow"/>
              </a:rPr>
              <a:t>TSP Executive Strategy Seminar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Module 7: Introducing and Sustaining the TSP 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llocate Resourc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ement takes work. Trained and qualified professionals mu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ch the courses, coach the teams, draft policies, and provide guidance and sup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help in solving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d the transition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, evaluate, and report on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ransition team must have sufficient resourc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 coaching-staff target of 2% to 3% of the professional popul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tivate Particip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966960" y="1669680"/>
            <a:ext cx="7316640" cy="4597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ers are reluctant to participate in experimental progr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mphasize that management has selected the TSP as a new direction for the organ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ress the opportunities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 TSP experience for the entire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 benchmark for future te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rn a new and exciting technolo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 valuable skills and knowled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lecting Pilot Proje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66960" y="1706040"/>
            <a:ext cx="7316640" cy="4597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ick 3 to 5 medium- to large-sized pilot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 to 15 team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4 to 18 month schedu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-intensive new development or enhanc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presentative of the organization’s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ortant proj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 teams with members and managers who are willing to particip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 the group relationship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tracto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rganizational boundari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60360" indent="-2458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rnal confli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ploying TSP</a:t>
            </a:r>
            <a:br>
              <a:rPr sz="3600"/>
            </a:b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17360" y="1709640"/>
            <a:ext cx="36320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76"/>
              </a:spcBef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TSP is introduced into an organization on a project-by-project or team-by-team basis.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TSP is more than a training program, the new skills must be used in a team setting soon after training ends.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Treat the deployment like a project.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9536b"/>
              </a:buClr>
              <a:buFont typeface="Arial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Set goals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9536b"/>
              </a:buClr>
              <a:buFont typeface="Arial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Assign responsibilities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9536b"/>
              </a:buClr>
              <a:buFont typeface="Arial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Allocate resources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9536b"/>
              </a:buClr>
              <a:buFont typeface="Arial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Involve line management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9536b"/>
              </a:buClr>
              <a:buFont typeface="Arial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Plan and track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773600" y="1612800"/>
          <a:ext cx="4151160" cy="4488120"/>
        </p:xfrm>
        <a:graphic>
          <a:graphicData uri="http://schemas.openxmlformats.org/drawingml/2006/table">
            <a:tbl>
              <a:tblPr/>
              <a:tblGrid>
                <a:gridCol w="380880"/>
                <a:gridCol w="3770280"/>
              </a:tblGrid>
              <a:tr h="33660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61800" indent="-361800" algn="ctr"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solidFill>
                      <a:srgbClr val="9c2108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61800" indent="-361800"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fede5"/>
                          </a:solidFill>
                          <a:latin typeface="Arial"/>
                        </a:rPr>
                        <a:t>TSP Introduction Steps</a:t>
                      </a:r>
                      <a:endParaRPr b="0" lang="en-US" sz="16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solidFill>
                      <a:srgbClr val="9c2108"/>
                    </a:solidFill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tart by identifying external or internal resources to lead the effort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If internal resources are selected, send them to SEI training to become authorized instructors and coaches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rain top management, then select two or three initial projects or teams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rain the selected teams and their managers then launch the teams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Monitor the projects and make adjustments as needed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xpand the scope, selecting additional projects or teams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reate or expand the pool of available SEI-authorized instructors and/or coaches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Repeat starting at step 4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ining Participants</a:t>
            </a:r>
            <a:br>
              <a:rPr sz="3600"/>
            </a:b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1400040"/>
          <a:ext cx="8454960" cy="5097600"/>
        </p:xfrm>
        <a:graphic>
          <a:graphicData uri="http://schemas.openxmlformats.org/drawingml/2006/table">
            <a:tbl>
              <a:tblPr/>
              <a:tblGrid>
                <a:gridCol w="1841400"/>
                <a:gridCol w="2770200"/>
                <a:gridCol w="3843360"/>
              </a:tblGrid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fede5"/>
                          </a:solidFill>
                          <a:latin typeface="Arial"/>
                        </a:rPr>
                        <a:t>Participant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solidFill>
                      <a:srgbClr val="9c2108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fede5"/>
                          </a:solidFill>
                          <a:latin typeface="Arial"/>
                        </a:rPr>
                        <a:t>Course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solidFill>
                      <a:srgbClr val="9c2108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fede5"/>
                          </a:solidFill>
                          <a:latin typeface="Arial"/>
                        </a:rPr>
                        <a:t>Note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solidFill>
                      <a:srgbClr val="9c2108"/>
                    </a:solidFill>
                  </a:tcPr>
                </a:tc>
              </a:tr>
              <a:tr h="45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xecutives and senior management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SP Executive Strategy Seminar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 day + optional ½ day strategic planning session.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Middle and first-line manager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eading Development Team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52960">
                <a:tc rowSpan="2"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oftware developer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Fundamental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Advanced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 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 (optional)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95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I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II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(Alternative to </a:t>
                      </a:r>
                      <a:r>
                        <a:rPr b="0" i="1" lang="en-US" sz="1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Fundamentals </a:t>
                      </a:r>
                      <a:r>
                        <a:rPr b="0" lang="en-US" sz="1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and</a:t>
                      </a:r>
                      <a:r>
                        <a:rPr b="0" i="1" lang="en-US" sz="1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 Advanced)</a:t>
                      </a:r>
                      <a:endParaRPr b="0" lang="en-US" sz="1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 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275040">
                <a:tc rowSpan="2"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Other team member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Introduction to Personal Proces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.5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675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SP Team Member Training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(Alternative to Introduction to Personal Process)</a:t>
                      </a:r>
                      <a:endParaRPr b="0" lang="en-US" sz="1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.5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735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Instructor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Instructor Training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re-requisite training: </a:t>
                      </a: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Fundamentals and PSP Advanced or PSP I and PSP II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735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oache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SP Coach Training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re-requisite training: </a:t>
                      </a:r>
                      <a:r>
                        <a:rPr b="0" i="1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Fundamentals and PSP Advanced or PSP I and PSP II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cale-Up Approa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broader TSP introduction should repeat the pilot project steps across the organ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each location’s goals and responsib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 project by proje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 an experience b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managers and executives fir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develop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unch projects with T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eat each new introduction as a te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SP metho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aluate resul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just plans and methods as need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Scale-Up Te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m a scale-up leadership te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train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required skills, disciplines, and constituenc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core of full-time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duct a TSP launch of the scale-up effo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team members pres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 participate in opening and closing meeting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nitor and review like an engineering proj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ustaining the TSP -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sustain long-term TSP transition, incorporate the TSP transition goals into the organization’s business syst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ward and recognition progr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alary and promotion review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reer plan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onus criteri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igh-potential management progr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TSP success is recognized as a ticket to personal advancement, sustained improvement will be assu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ustaining the TSP - 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04400" y="1714320"/>
            <a:ext cx="7410600" cy="45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with any disciplined activity, the TSP needs continuing reinforcement from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regular quarterly management revie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project performa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ine key process measur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nd review benchmark comparis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, recognize, and reward superior individual, team, and management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intain Continuing Oversigh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ile goals, responsibilities, and resources are essential, they are not enough to sustain a major behavior chan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senior management appears to lose interest in the TSP transition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gress will be slow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ffort will not succe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take all of these steps and show continuing interest, TSP transition will be rapid and effectiv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9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key to TSP introduction is management priority and suppo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nsition will be rapid and effective if you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and track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clear responsibil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ign adequate resour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 and monitor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gnize and reward superior performan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introduction: overview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roduction ste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unching the pilot progr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’s role in introduc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ing the coaching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staining continuous improv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Introduction: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strategic objecti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ame the transition champ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itiate 3 to 5 pilot TSP proj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 a scale-up capabi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stain continuous improv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trategic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rt ter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pilot project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a baseline for measuring improvement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an initial milestone time-lin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initial business benefit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initial PSP/TSP staffing, training, qualification, and certification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ng ter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a long-term milestone time-lin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long-term PSP/TSP staffing, training, qualification, and certification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long-term business benefit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ablish Success Criteri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ould success look lik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the truly successful outcome.  Be specific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cent defect fre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rvice and support cost improv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ustomer satisfaction meas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ycle time acceler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- - -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ublish these goals and consider them in reviews and evalua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volve Line Manag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should involve line management in objective set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ransition team can only initiate and support process changes but cannot make them happe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nly people who can change the behavior of development groups are the group’s manag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uring rollout, ask the line managers for transition status repo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lude transition goals in line-management measurements and evalua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nsition Champ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ppoint a transition champion:  Without one, little will get don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champion is responsible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ing the transition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gotiating this plan with the product manag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ing the plan with senior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nitoring and guiding the transition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ding the dedicated transition resour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aunching the Pilot Progr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17720" y="1722600"/>
            <a:ext cx="74102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with three to five TSP prototype project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ocate resourc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responsib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plans to meet the prototype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the pilot TSP teams and their manag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unch the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data and evaluate and review the resul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needed adjust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first TSP pilot projects to build experienced coaching and transition resourc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5:06:32Z</dcterms:created>
  <dc:creator>Daniel Burton</dc:creator>
  <dc:description/>
  <cp:keywords/>
  <dc:language>en-US</dc:language>
  <cp:lastModifiedBy>wrn_loc_adm</cp:lastModifiedBy>
  <cp:lastPrinted>2001-07-23T13:49:01Z</cp:lastPrinted>
  <dcterms:modified xsi:type="dcterms:W3CDTF">2018-09-06T00:18:00Z</dcterms:modified>
  <cp:revision>49</cp:revision>
  <dc:subject>24 July 2001 / 3:30pm</dc:subject>
  <dc:title>PowerPoint Presentation</dc:title>
</cp:coreProperties>
</file>